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297-8CFF-40B4-A7CE-DB4BC5C2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81A-AA83-4735-A11A-C3F35F42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20B-D0BF-4474-BFA8-970B2EA6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F04-BD92-465B-8968-8FB831C3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B67-0781-4713-A9DA-4B1739D1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24B-D719-42F9-8D42-FBF211B4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DD4-E8C9-42F8-ABED-D1A2A08B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B1F-6358-4BA2-AEA8-75F54298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B59-E245-437B-A9FB-EBC8C98C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6B1-939D-44E1-83E2-9D09CE24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235-F695-4383-8E2F-B1AD1D3C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202-DEB6-4091-AB90-753B4E89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548F-BFAC-460D-A873-2D80B6AEEB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rapbookpages.com/AuschwitzScrapbook/2005Photos/GasChamberMainCamp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uschwitz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Kim Conners and Cari Cod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33520"/>
            <a:ext cx="25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514600" cy="1685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533520"/>
            <a:ext cx="2819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72200" y="4648320"/>
            <a:ext cx="2590920" cy="181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2286000"/>
            <a:ext cx="2438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hoes that were taken off the dead body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00800" y="649116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649116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655308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unks were prisoners slep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0574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z.about.com/d/history1900s/1/0/-/B/auschwitz19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5410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annefrankguide.com/en-GB/content/gevangenen-auschwitz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hen, Where, Who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1942, trains carried Jews by the thous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wiecim, Po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 officers also known as Naz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, Poles, Soviet prisoners, Jehovah Witnesses, homosexuals, Sinti Roma, later the gyps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53080" y="4876920"/>
            <a:ext cx="1933560" cy="144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29400" y="65530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bluegrassbulletin.typepad.com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hat Happened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1.3 and 1.5 million people murdered in gas cha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90% were J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10% were made up of Poles, Soviet prisoners of war, Sinti Roma, Jehovah Witnesses, homosexuals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4800600"/>
            <a:ext cx="2210040" cy="1473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52880" y="6545160"/>
            <a:ext cx="388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images.google.com/imgres?imgurl=http://www.scrapbookpage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Facts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t up into three major compl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chwitz I, main Camp or Stamml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chwitz II, or Briken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on October 8, 19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extermination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chwitz III, or Monowitz, established on May 31, 1942 as a work ca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86600" y="5181480"/>
            <a:ext cx="1444680" cy="1332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5720" y="6629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8.officinedigitali.it/binar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p population 10,9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reputation- torture and mass shoo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 1943 section was established for Gyps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acity of Crematoria was 4,420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2505240" cy="158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67280" y="6629400"/>
            <a:ext cx="274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stbrendanschool.com/WWII/Holocaus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9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uschwitz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 graves at Auschw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soners at forced labor in the Siemens factory. Auschwitz camp, Poland, 1940-1944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1981080" cy="1838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Prisoners at forced labor in the Siemens factory. Auschwitz camp, Poland, 1940-1944."/>
          <p:cNvPicPr/>
          <p:nvPr/>
        </p:nvPicPr>
        <p:blipFill>
          <a:blip r:embed="rId2"/>
          <a:stretch/>
        </p:blipFill>
        <p:spPr>
          <a:xfrm>
            <a:off x="1066680" y="4038480"/>
            <a:ext cx="2971800" cy="1963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47920" y="3733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hollow-hill.com/sabina/images/auschwitz-corpses.jp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6400800"/>
            <a:ext cx="304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ushmm.org/lcmedia/photo/lc/image/19/19319a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risoners at Auschwitz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icture taken just after the liberation of Auschwitz-Birkenau by the Soviet army in January 1945, shows a group of children wearing concentration camp uniforms behind barbed wire fencing at the cam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Auschwitz"/>
          <p:cNvPicPr/>
          <p:nvPr/>
        </p:nvPicPr>
        <p:blipFill>
          <a:blip r:embed="rId1"/>
          <a:stretch/>
        </p:blipFill>
        <p:spPr>
          <a:xfrm>
            <a:off x="2286000" y="3429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09680" y="632448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i.telegraph.co.uk/telegraph/multimedia/archive/01243/auschwitz_1243899c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locaust Survivors and Remembrance project.”Web.3 Dec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http://isurvived .org/AUSCHWITZ Thecamp.html&gt;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orgotten camps,. “Auschwitz-Birkenau.”Jewish virtual library. The american –israeli cooperateive enterprise,web.3 Dec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immeram, John C. "Body Disposal at Auschwitz."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uschwitz the Death Cam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15/10/1999. Webmaster @ Holocaust.Hist.org, Web. 8 Dec 2009. &lt;http://www.holocaust-history.org/auschwitz/body-disposal&gt;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46:58Z</dcterms:created>
  <dc:creator>30853</dc:creator>
  <dc:description/>
  <dc:language>en-US</dc:language>
  <cp:lastModifiedBy>30853</cp:lastModifiedBy>
  <dcterms:modified xsi:type="dcterms:W3CDTF">2009-12-16T15:42:14Z</dcterms:modified>
  <cp:revision>10</cp:revision>
  <dc:subject/>
  <dc:title>Auschwitz</dc:title>
</cp:coreProperties>
</file>